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D855-EB6E-479C-A5BB-5C26787963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BE6F-8DEA-4EA8-802B-6F263A9489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9F8-AAC8-4F36-8C2D-9C9DFEDC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AD7-5A49-4E17-B657-B2290430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BB5-B604-4DD3-BE99-03DEE3CB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166-7D3C-49E6-9442-861686E6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0C25-6A16-4064-9ED1-D05FBB9B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6F78-9C31-4392-A45F-72C5AA6C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07B6-3681-4C41-B7F3-69AFA62F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FA65-8724-46EC-B420-2B103DA5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59C-3505-4DAC-906E-D41302E2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99DF-568B-48F0-B4F9-E07852FF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4FF2-75DF-4E47-8BAA-86DE4C11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EE2-2300-4D82-B415-8E4F872E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F99B-D593-4ECE-AD05-9A53A613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667D-18B2-42E4-ACC8-6C31C64A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3D29-F8D4-45F3-A134-BC2CCD52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3717-A640-4F2A-ABFD-E5F659A2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CB52-2F10-485E-883A-4866BC3F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F4E0-CEAB-4C31-8F8E-212D596D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5BB1-9C21-43DF-9E83-5A9CB037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03D8-5668-433F-8C26-81A99B01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7D20-D7C8-4FC9-A5AC-F3CA91EA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8D68-0BAB-435B-B37F-E1116335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D29-5A22-425D-9741-BA246F5A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5263-F920-44D2-807D-FE706EB7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157D-795F-4B1E-BF13-6E64BDD1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DE98-E7DC-4EE7-BE86-07DA29A5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3752-C7D2-43BA-A755-06E5E025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768E-78A8-4E80-B944-67BA8D83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0BAE-C6F7-4313-9225-ADB55B87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4B6B-1153-4891-8BD3-2B65B224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B930-D3FF-45A8-9109-15B13803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361B-9291-4675-A403-A5465B0B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4014-08D0-41D3-8EC5-31AEC315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C87-B87C-4E7D-AED4-786F508E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CBC67-7F33-483A-953C-E44B1D93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CCB6-BCF1-428E-9EE9-45AAC2A2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EEAD5-19EF-41EA-AC79-580724EC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21D90-CDDD-4C18-A141-21AF511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81DF-395A-49AA-BD16-6F2D36E6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B03EC-FF06-41FB-A171-F65FB667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28230-5269-46BC-AD34-D528DA3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5C895-72EB-4881-81B7-B5CE61EE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021FB-A463-4B13-81E7-2E12E4CC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C540B-4FD4-4EAB-963F-C0A268C3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DA3-071F-403E-9362-32C80730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F1EE-E94B-4D66-8E40-377FD14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C71A4-EB0E-4976-9389-BF726BEC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5E944-954C-4C3E-B292-96DBA39C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3D6B5-3962-4CC4-B6F9-9D4BEB4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ADDC-3EDA-4232-9B03-67FEF63E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DC8C-9F9C-46D7-9B1B-3C2BFA86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109B2-71B9-4F90-BD4F-285ADA2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21208-6455-47CB-B31D-B8BC846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F3DD9-2A66-4E2B-85AF-20DF1887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B1638-E287-458D-90BF-552A786D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E38-4723-457E-9BA8-94F52D0D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F9EE1-6646-47BD-B240-6DAB77F5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5AD-6AEC-4ED1-A937-8AA802C2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8F4-5618-4D9C-966B-4D45C9E5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0A4-72A3-499E-A5E5-0F47E54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84D5-3A1C-4236-B48D-0A391BAB08C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3B98-9E35-446A-93D9-59F32805535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6E41-D736-463C-8379-29BDDCB3877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C403-DF7E-453F-9E47-3BF79251844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0524-2898-4AEF-AEF6-7AD55161A9B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Arial"/>
                <a:ea typeface="Arial"/>
              </a:rPr>
              <a:t>Решение квадратных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78552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ежде, чем думать о решении будущих задач, научитесь справляться с сегодняшним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за наименьшее время 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 большей эффективностью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.Друкер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920"/>
            <a:ext cx="8258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Квадратным уравнением называется уравнение вида …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а, в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квадратном уравнении  называю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) Коэффициент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вадратного уравнения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) Второй коэффициент в уравнении: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2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х – 3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) Первый коэффициент в уравнении: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4х – 7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6) Выражение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4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a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7) Количество корней квадратного уравнения зависит о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8) Если дискриминант положи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9) Если дискриминант отрица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0) Квадратное уравнение имеет один корень, если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1) Напишите формулу корней квадратного уравн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714240"/>
            <a:ext cx="77724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² + вх + с = 0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ободный чле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ва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 имеет кор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 равен 0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=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цен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правильно –      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9-10 правильных ответов –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-8 правильных ответов –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остальных случаях –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делаем вывод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х² + вх + с = 0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уравне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4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имин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рней зависит от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&g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два различных 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D=0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дин коре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уравнение корней не име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корне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Желаю успехов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0T13:48:06Z</dcterms:modified>
  <cp:revision>34</cp:revision>
  <dc:subject/>
  <dc:title>Слайд 1</dc:title>
</cp:coreProperties>
</file>